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373-1FD1-4FF8-8E06-5BDE95BE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CE84-A22C-4FC5-9F83-12C66327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DB5CF-F9EF-4A71-9898-28844BED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B6B88-F4D7-45C2-9F22-D0A54C96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7D555-4F46-475F-98A8-2150012C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5746B-1EB2-4269-9788-65358C2B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B52C9-BA04-4943-B9EA-21C959AB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711FF-269B-4C3E-B7C4-E0B466C9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72215-1001-4178-B243-2F2D8639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185E6-4574-4A52-A105-72F3B652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2B247-D23E-45EE-B598-3CDAA411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9FC47-B7D2-4F8B-8029-CEC23A2A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7FD1-F63D-41AC-960F-2E766681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C4F30-E0E1-4AF6-808B-7CF3685C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C46F8-F9B5-495E-9D04-BA8ECF96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5E901-C982-4FC3-8068-E2028ACA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857EB-A656-4BB5-A546-843F397B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F749E-455B-423D-B6C4-50D9C9AD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015CC-5B83-4D01-9425-E3C7AE35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B9328-94B3-48F2-A8CE-524E756D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2D61F-C922-42F7-A3F4-B8114BB1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79DA2-509B-4AEB-BCB1-3AE294E6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E0769-1596-43DB-9A6E-184697A3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003F-BE50-4577-BD7E-44BA8FAF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BC319-5F45-405A-8782-479D5081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E9124-0085-47B6-96AE-C9CE5598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E5457-B21F-4781-9451-301FF0ED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B7CF75-6257-428F-A90D-C771231B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57B1A-199B-4B4B-B6CF-FA465EED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21481B-4B12-4E9C-B924-4EF9D9B5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3E798-3A44-44AD-81FB-BF226D0B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B5F1F-F102-4CFA-805F-271B4B50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40F85-220A-47E2-AC35-52B34A7A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AC231-25CD-46A6-AA89-3648E96F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BE722-E6F7-43A9-9DC8-E838F796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261AF-2748-4294-8659-9E8D21E7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54A1F-DC70-46D6-8FFB-AFB94524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D9A258-AA91-48AD-98FC-21D1B350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39F10-85FC-40DF-A21D-232DB0E2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CD7D8-3053-442A-B882-BE6BCAAA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8FA36-C8E2-48C1-85D7-55D4101E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E0442-A2B1-4FD6-9185-C50349F2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C9E182-E46E-4E94-96D3-1F202807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CC09C-3664-4323-888C-945A40FB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D1FC4-6A49-4B9A-A8DD-9B218F871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71B4-9A57-449D-8780-A7CD16E5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D00A0-9C91-4079-8357-B19E17A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3940DF-65AE-4375-BB21-ECB6E93D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EBC3C-5FFD-4A6B-857A-131667F8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DB41A-778A-4DC0-B7AB-FE2ABA8E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8EF65-7BEC-4624-9161-A948CC07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09E1D-5361-4F55-81B2-B7406D3F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9E654-2F20-4DE9-94D7-B9A2B2E3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D40A1B-91C6-43D4-8DFE-8FBEE55F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140FD-8ADC-4073-B29B-A640C6FD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DFBAAE-BEB3-4FEA-984C-22639B07E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02AD-5FF1-4519-84AC-FDB2C604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9B0CE0-6119-435C-BC7E-5E364297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156B6-DBBD-4302-8380-567AA345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89FB65-2B29-456E-9C49-D6846DBA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76392-FA8F-4CD4-88D1-1715C749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B219D-AFC1-4745-BD06-31F6878C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638D8-7E17-4103-9F29-42E62E8A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1C4BA-FA2B-453B-86DF-F58A6B90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9F6B5-70A5-4247-8B59-332EB9AA9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C5055D-D0A7-42BF-8770-4646D1E2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F1ADC-81A9-4571-9957-3BB43162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A677-17AC-49F6-84C4-E5A6A1FF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35E05-4A91-4A9E-B503-5DB03D79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AD5EB-D409-4370-B25E-88770D44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EE9D27-7A9A-4351-BE1D-7E3FEDA8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0C5AC5-0DB9-48FB-852A-A4B08A11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C52E6-3869-4A4C-A983-44C321AF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3BEDA-3D19-49D5-96EA-D2E952A7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FA8D8E-F9F1-4C27-B78B-940A3E70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AB647-ED63-4F21-8E57-528242F9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76691F-1725-4B37-BB1D-5DDBD0FF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9761C-AFE5-42B3-99E5-FBB4F448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AD65-D823-4114-809A-359098E8C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05318-452D-48A5-A811-A348B2F9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5F5B1F-8554-47E6-9017-82DE0C10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33C7D9-9E4C-49C9-A096-ECFBB30F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28F9CB-03B9-40A6-80A0-18BA8718D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642D07-AC0F-4274-BD06-3F14E7CC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4EF690-FFEA-41D6-8B6D-E0124A05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2E6F6-8364-4317-9DBE-B8923D32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44F82-2AD9-4431-9A7F-4656EA01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AB5358-49BF-4C18-8B08-09A23908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8CEFE6-59BD-4002-A017-D958D57E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BBE9-EEB7-435D-9801-F5A17A93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A6C112-8BBF-4657-AFE0-EB029D177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7160E-448D-405A-8C97-FF236C05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99685-FD02-4F6B-8623-F9C2CBE9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CBAA68-4F6E-4695-AEBD-50B1CDFB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1D3FC8-2052-490B-B750-D6A42D3C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223FFC-7C7A-418F-A742-BCAAC60B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BD345-761B-4E27-83C7-EB2F4BC1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21CCC9-1B7F-4A99-8EC8-F1AC4E95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486A8-5B6C-4D8C-B262-45743715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1D6-4158-45AA-8F57-A1D8E2EC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1451-0E46-40F9-95E0-B7FCD8D8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FC4BE-82FA-4250-BB49-DEEDFC23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DC09EA-AAD2-454F-BD72-6501A48D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CDF61-059C-4FD6-9B83-86D52ECA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E4167F-DBD1-4ACB-BCE5-54F1E3F3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ADF66-A1C7-4455-8733-550E71B7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D4104C-92F0-4BC1-8864-FEABD5EE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14C82D-F469-4650-9DE9-A30C6741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FC83D-DC96-4EF1-BCC9-22B2B6E3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8374E1-CB02-4EDE-B0DC-26713C2D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801FE-A444-439C-9DF4-3BD9C138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9F3F-0DFD-4B37-96D7-C0034E4C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C08F6-ED88-4C94-A249-44BFF379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B97DC-89B4-4188-B276-6AE1BD3A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43F60-B1F6-4D05-8F8D-943B2BC4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FA0E1A-AA31-43B8-A165-5C836C1F8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61B458-4E1E-4205-B851-C12A80A0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953AE3-CDA4-47B3-A077-97F8406B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910C2-A0AE-46E7-BD0B-A1AA0647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6A47F4-ADD9-44CB-8210-B2D0FC62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ADF74E-16CA-4947-A03C-3A795B47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5A7F80-0E3E-4917-A3BA-D3232D18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9716-5618-45A4-9B9B-5ECEE185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240BC-4E74-49B2-8502-B7F105A6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AB5AD1-474E-4D94-A7D8-51E6BD66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F58B05-BCB7-400A-A300-2483C108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11E69-85C7-480E-B819-A5CFD10DC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ABD014-20AF-4122-8B0F-B9EA5184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4E449-4F75-4E76-8FD9-3B543988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0E440-E5F5-4DA1-9FFC-F738C804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B219F0-31E9-485C-8E18-4C8093AD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755DDE-95B7-4C67-BB83-EE9790EE9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B0B93D-09E3-41A7-9731-A136F2353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BD995-CC3F-41CB-9AB9-0599FE94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27EEC-0792-4ABD-A8A6-77F64DDF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AAB663-5C33-4363-90CE-A361283F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AF594F-C159-47F1-AAC7-DC40B1A1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044E85-0911-4361-8E1D-A93B902C8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39E48-5C62-42CD-8D9E-0141B686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9A52F2-FDA0-4F22-BFF6-8AC4B5A3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55FE5E-67F8-4D08-8FC9-8E07DB6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FE5EA-5D94-47AF-8C8C-103840DE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0B0D63-B391-4A23-B0FC-1CDCB7B6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E01B8C-208C-4F64-9F72-6B0160885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B0ED-68EA-4D30-B80D-D0C2313E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BC4002-DC47-4CCB-A831-547A4608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4D0108-6D58-499E-A827-301F92C0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9F8AA2-8968-4598-8E2D-20F4218A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0A0382-8FE9-4B0C-ABC0-B9510D69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B10EE4-AE35-4476-BA08-E5D74D18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EA854-2F9D-4221-BC84-AC63474D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7A51EB-4690-4D9A-A525-5355B8A56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4D66B7-9D39-48E7-8C90-D54A0513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0FD839-0A08-4BB7-98A1-81D75F5C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DB526D-D5D5-4F52-8A49-712821A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697B-7709-44E4-AD16-3550F75E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BDFD0-411A-419C-8763-63C003645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781FA0-5F8E-4705-95B8-4511E16A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EA76C-EDB7-467A-8493-84996716B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31EACE-D2A2-482F-9137-12F6577E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6D375B-CB15-43DD-A222-A58F9F13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706C5D-7D39-4EF9-B96C-340F5B7C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36D2F1-1786-4466-ACE9-CA6474C7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7D0BE0-0AFB-45CA-9DC2-3CC8AA19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07A87B-6C5A-4592-8B9F-8EEDFBC3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8387B-4B29-4DCF-8A8B-5F7B7249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F5CE7-8F30-4BEB-8CBD-BCF1A9D4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BB5FA7-AF59-4736-83E8-7A96733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55B25-B398-4EE6-9B94-5C876F2C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6CF95A-579E-44F7-A1B0-42958C9C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99D4E1-AF80-4D2B-A8EF-9EC6FFB23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89E04F-1CF9-48BA-A959-582E832B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893C03-8509-4A20-8EA1-98574AD1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72FA45-0392-47C2-990C-6BF422F2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BF9CD4D-4B19-4C6A-80B9-D8DB2D16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F1E3CE-D870-4DD7-9F93-46A7E2E8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5D2AE9-9E9C-4BE2-84F7-93910005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84070-073B-413B-B03D-7FB7EFFE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E44E8D-DB52-4662-AD1E-81069851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7C5BB5-3D35-4597-92C6-5FD9CD7A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C78976-3668-440B-85DB-1DB766EF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5AD9F6-3A14-48C4-BD8F-443F35B1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0CBC75-9632-43A9-8FE5-288D9857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97A7E8-C3AE-4290-80E3-A27B4E2C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C07C8B-D25D-451C-8385-A1407085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7481DB-6153-4389-ABD3-032D76CAC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C3331-7813-4BFE-9C06-E3BBCB5E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4C7C84-D028-4A52-B218-FE8199E2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07349-F731-4415-88BE-DD7360E8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5C1C9E-3B28-4235-8E65-205EEFCD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40D004-02A2-459C-AA85-E19468E6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8B4661-C401-439F-82F3-1268A65B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67437B-E630-482F-AB0D-2DA2033F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FAE82B-8884-4FCB-95C7-46B9D0FB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CEDDE6-349E-46BC-96D2-C0EB9871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0486B6-8B5C-4330-9EA9-596F46CD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10A177-094E-481E-A679-F463263D6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3A83581-CB49-4A18-9113-A5183164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D2700A-33EB-4F52-9C82-F6641B5F3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84E12-394C-4E96-A9EA-F6818040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527743-D2BC-44C0-B9A6-CCDAEF5D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9B9886-83A7-4140-9A7A-4FB1E7E2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D711C9-1E1F-4057-B597-F1DFDFE6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63614A-BE53-4D61-BE16-C470DFA6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FDA6A37-B45C-499B-B7C5-5ABED63C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2413A00-8A6F-4774-9D34-854E6FA3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E75636-22CC-42CA-846A-D6D2AC5A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837D08F-38D9-4122-96E9-BE6CBC12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16A606-7BBD-4FF1-A695-EB603708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89D5143-6B82-404D-B24C-A6A0FA8C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A58-5235-49CD-9797-8C8D54EE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94B87-53B0-479B-A286-E216325FE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44E6139-10EE-4C46-8A19-92F211E57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B490E6-F027-4AEF-998E-F785A0D40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4ADEB0-73AA-4EE1-9160-E2B66A27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32AF4F-BBEC-43AA-B167-EAD06191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F9C9B0A-0EE9-412B-A23B-E6B9FF7D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509F9A-9637-4FC1-A414-B0B6B9129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2209DD-EDC4-4018-AD26-8141C80B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CE2D71-1803-496A-8748-2E71CC6C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FF1DC1-C18A-4382-A63F-C0874302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A76CEF-BC84-4690-8A24-523816B9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69C24-37F0-4700-AFEF-D5A8F854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D574F2-8092-4A97-9121-B2EE7205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CFBFF3-15CD-40E5-AF8D-A249C78D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58288E-E953-45E3-A61D-D7B362456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B8497D-8490-48DB-B205-A8BBEE733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D38A26F-8108-4D57-9E87-BC86E8E4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C153A3-25B3-42A8-831F-F42CE2D8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47E30B-BCBB-4EDE-8C0D-D5548CA8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5E4888-8E8B-4DF5-B091-72534C2C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22A4CF-8413-44BB-943A-D806ADFF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213CBB-15DB-43F6-A743-D940E3BA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E1BA9-6772-42F2-9336-3EFD2258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8C5D64-8DC3-4673-98DE-4BE19AAC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007D237-B659-429B-9A50-2AD517C0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D03A6F-F72B-4829-9117-41E6A749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9249EE-9259-4088-B268-37F4B0F7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0AB4EBD-7184-453A-9E91-8992AE99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D05AD-1649-48E1-BDF5-E014CB55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125A-D27E-49B6-8F7A-99FE16F6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1B67-C87E-4A37-BC94-B4A0D6E6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7C21D-CCEA-426A-9CB3-FFA27B93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D88A-57EE-45A6-9BB0-060B1554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D9BFA-5888-430B-B059-814DD8FC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9E823-7CB8-44B0-ABB7-88D5D4F6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9DD7-5DBB-4701-BD3B-804CE0F1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800F-8939-46B3-8A65-D13B2D6F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EEEB3-1674-472A-A155-81E75648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26EC0-DD9E-4790-B33B-CA2630EE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067D0-F6CD-496F-9A32-CB71654A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D1CF2-B961-45F8-8C30-1FB96BFB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5E660-1371-43F0-96EF-619B1074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E03FE-642E-4497-82F4-24A57E22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1898-FFF6-4C88-8278-6F2B2475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ABA67-5E58-4E79-9D26-F5F941A9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19EE2-3638-42B6-AFCD-8B5C7AF1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174-A252-4513-AFDA-0BBE0C3B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CFD82-0BC0-4139-BA58-044545EB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92EB-5D37-48CC-AA15-0AEC5FAD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8D399-87C0-463F-960C-917121A2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06549-3EB7-47B3-887E-50A50F8D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3E770-BA73-40B4-8FD8-1DF54BB7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6CBD8-C3B1-4594-864C-6313CE1F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7DD97-782F-4501-B6FA-6C1250DC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5163F-4397-4B78-A544-A2F16147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2856C-0563-41DC-A064-EF49902B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E7312-8443-495E-BEDE-A896D368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460E-E97F-4600-9EF4-11D10AB6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F01C6-8061-4CA1-BE3E-E1DEFBCB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8AE61-18CA-4601-8381-715C8153A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A7ABD-2427-4F0D-87AB-73E7F7B06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C6864-7190-424B-84C6-D44056F1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C9718-C9AF-459E-A3CE-B9596A77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E482F-4D04-4E76-98C6-AB31518E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46999-7A56-49E8-8EB4-13D6DA73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E6FC0A-B8AC-4395-97DD-63A8D9A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9E63E-5F60-4823-B2C8-DBBB2092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A995A-D2F9-4469-98A7-6395C918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04F-E246-4F47-8CFC-3AE8306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7810F-2644-4C64-945A-50FEDB246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1E2C8-F7C0-4DC6-861B-EA3DED84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C53EE-9AC5-43D4-8D43-501550E9D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01456-250A-446A-BE4F-46DFC7D0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371F2-E3D4-4C76-8587-E560B6C6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A8E86-0084-47A3-85B1-2F3DE890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3BC2E-4320-43F8-88E1-15376F57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93A22-570D-411D-AA74-718164E5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E8D2-73BC-4A94-B793-16522CA3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C7C54-9026-4D77-BCA3-467DB285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E50D-0FE8-4305-973A-818BB1EE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B1D31-1628-477D-9232-C3761DE6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29BB6-94AC-4EDD-B1EC-6217A148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39CF3-F2A9-4186-BC31-4EC68FB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E8EB1-FD0D-4197-8635-8A6377AC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FE1AF-0D75-416C-8518-5BE08DB3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8E401-E983-424F-A077-94B47E4C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E62A8-CC4D-4510-9C61-659C7871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5A7BB-2CE0-4800-AAC7-E96A9A8F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C2A34-E2D5-4563-843D-99244BD8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179B8-E188-4F9F-922B-85D2C6E6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5C88-F91C-4C4A-B5B7-020BC6B7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150560" y="213840"/>
            <a:ext cx="7792920" cy="36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64EBE-2425-4BCF-8B84-D3A56BC9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F065D-A6DE-4C75-8918-C9FD4C14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5FA803-8BB3-4AC5-9294-F077966F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85C6B-43B3-4986-9860-9E26767A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0DCA7-948E-4D6C-B405-9C447A10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DFB09-B7AA-4ABE-8DDE-BC33B1AF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31F6E-078A-4E75-8D61-5AEC73E9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481FD-7D6F-4822-A4A4-F71DE662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FB0E2-D98F-4F5A-8CBE-4C65E063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3440"/>
            <a:ext cx="77929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60DDDD-3E4A-4D03-A6B5-FDD4386B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3E96-633F-4E9F-AF4C-51E6F10922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@@@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3753-FE17-484C-8AF4-05B6274CF1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3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3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6135-F43F-4C6B-B12C-1AF6033039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E237-A7B6-47D7-98F3-9772C406D9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D44C4-A4AF-4587-AC83-E100C9C00E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4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4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4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2B07-C8C8-456D-BBB1-9AEEC6BC6D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4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4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4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9E5C-FD35-4E02-B0BB-A0240687D5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ftr" idx="4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sldNum" idx="4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B5C8B-FDAC-4BA7-A1FE-EBFECEADAB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4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0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D0197-B63B-4AB3-96BB-20196B597FB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dt" idx="5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ftr" idx="53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sldNum" idx="5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B37D-4003-4694-9B03-F9289E0124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6/20/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.Kisel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A37D-05AD-4D90-9F67-4B30C56F37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6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D6AC-BE79-48AB-9F4F-ECEDE1D75A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C3D2-AB2B-4F17-9F16-257195320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dt" idx="61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ftr" idx="62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sldNum" idx="6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A7B4-6F0B-4A2C-8FA9-D844237310B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5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0921-8B24-45D7-AAC2-6F4A98511C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 type="dt" idx="6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 type="ftr" idx="6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 type="sldNum" idx="6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B29B-D695-4C48-9FA3-BED5246C32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7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7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7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1781-A6A3-4174-AC93-4834180251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dt" idx="7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ftr" idx="7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sldNum" idx="7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BAE6-A3E0-455D-809C-90A8E059E48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15f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C1B0-B12E-47AB-A83E-C6AF13DA378C}" type="slidenum">
              <a:rPr b="0" lang="ru-RU" sz="1400" spc="-1" strike="noStrike">
                <a:solidFill>
                  <a:srgbClr val="515f7b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515f7b"/>
                </a:solidFill>
                <a:latin typeface="Times New Roman"/>
              </a:rPr>
              <a:t>/4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147E-1F42-46DD-9EEA-D98D099442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@@@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2A88-32DA-409B-98EA-BE89C2B5F9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787D-A57B-49A9-9AAA-D787744747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5956-39AE-4B78-806C-1361EB6F45C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DA8B-D34B-474F-A64C-8611110BB5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E228-2442-4146-BBAF-13A9BF1FA4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4" descr="Panther Aqua Graphit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5" descr="Panther Aqua Graphite"/>
          <p:cNvPicPr/>
          <p:nvPr/>
        </p:nvPicPr>
        <p:blipFill>
          <a:blip r:embed="rId3"/>
          <a:srcRect l="0" t="77953" r="0" b="3543"/>
          <a:stretch/>
        </p:blipFill>
        <p:spPr>
          <a:xfrm>
            <a:off x="0" y="0"/>
            <a:ext cx="9144000" cy="73188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15f7b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1afb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fcad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6/20/2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Kisel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7BFB-9551-4AC6-9151-3A7D3A87AC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vn.racf.bnl.gov/svn/eic/eicroot" TargetMode="External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990720" y="4419360"/>
            <a:ext cx="7162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 (Body)"/>
                <a:ea typeface="Tahoma (Body)"/>
              </a:rPr>
              <a:t>A. Kiselev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BNL, 06/20/201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Rectangle 7"/>
          <p:cNvSpPr/>
          <p:nvPr/>
        </p:nvSpPr>
        <p:spPr>
          <a:xfrm>
            <a:off x="0" y="9144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EicRoot status report 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and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calorimeter code developmen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7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er view (June’2013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19" name="Picture 7" descr="tracker3D.png"/>
          <p:cNvPicPr/>
          <p:nvPr/>
        </p:nvPicPr>
        <p:blipFill>
          <a:blip r:embed="rId1"/>
          <a:srcRect l="22502" t="12000" r="9000" b="5333"/>
          <a:stretch/>
        </p:blipFill>
        <p:spPr>
          <a:xfrm>
            <a:off x="762120" y="990720"/>
            <a:ext cx="7772400" cy="5276880"/>
          </a:xfrm>
          <a:prstGeom prst="rect">
            <a:avLst/>
          </a:prstGeom>
          <a:ln w="0">
            <a:noFill/>
          </a:ln>
        </p:spPr>
      </p:pic>
      <p:sp>
        <p:nvSpPr>
          <p:cNvPr id="1220" name="TextBox 8"/>
          <p:cNvSpPr/>
          <p:nvPr/>
        </p:nvSpPr>
        <p:spPr>
          <a:xfrm>
            <a:off x="1365840" y="5562720"/>
            <a:ext cx="6228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BG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1" name="TextBox 10"/>
          <p:cNvSpPr/>
          <p:nvPr/>
        </p:nvSpPr>
        <p:spPr>
          <a:xfrm>
            <a:off x="2668320" y="3124080"/>
            <a:ext cx="581400" cy="368280"/>
          </a:xfrm>
          <a:prstGeom prst="rect">
            <a:avLst/>
          </a:prstGeom>
          <a:noFill/>
          <a:ln w="936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200"/>
                </a:solidFill>
                <a:latin typeface="Tahoma"/>
              </a:rPr>
              <a:t>BS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2" name="TextBox 11"/>
          <p:cNvSpPr/>
          <p:nvPr/>
        </p:nvSpPr>
        <p:spPr>
          <a:xfrm>
            <a:off x="5647320" y="1981080"/>
            <a:ext cx="551160" cy="368280"/>
          </a:xfrm>
          <a:prstGeom prst="rect">
            <a:avLst/>
          </a:prstGeom>
          <a:noFill/>
          <a:ln w="936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200"/>
                </a:solidFill>
                <a:latin typeface="Tahoma"/>
              </a:rPr>
              <a:t>FS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3" name="TextBox 12"/>
          <p:cNvSpPr/>
          <p:nvPr/>
        </p:nvSpPr>
        <p:spPr>
          <a:xfrm>
            <a:off x="4046760" y="2590920"/>
            <a:ext cx="569520" cy="368280"/>
          </a:xfrm>
          <a:prstGeom prst="rect">
            <a:avLst/>
          </a:prstGeom>
          <a:noFill/>
          <a:ln w="9360">
            <a:solidFill>
              <a:srgbClr val="f8f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200"/>
                </a:solidFill>
                <a:latin typeface="Tahoma"/>
              </a:rPr>
              <a:t>VS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4" name="TextBox 13"/>
          <p:cNvSpPr/>
          <p:nvPr/>
        </p:nvSpPr>
        <p:spPr>
          <a:xfrm>
            <a:off x="4343400" y="4267080"/>
            <a:ext cx="585720" cy="642600"/>
          </a:xfrm>
          <a:prstGeom prst="rect">
            <a:avLst/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ff"/>
                </a:solidFill>
                <a:latin typeface="Tahoma"/>
              </a:rPr>
              <a:t>TPC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5" name="TextBox 14"/>
          <p:cNvSpPr/>
          <p:nvPr/>
        </p:nvSpPr>
        <p:spPr>
          <a:xfrm>
            <a:off x="6935040" y="1219320"/>
            <a:ext cx="592200" cy="3682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FGT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ing scheme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8" name="Rectangle 3"/>
          <p:cNvSpPr/>
          <p:nvPr/>
        </p:nvSpPr>
        <p:spPr>
          <a:xfrm>
            <a:off x="380880" y="914400"/>
            <a:ext cx="853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o-called ideal PandaRoot track “finding”: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PandaRoot track fitting code: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29" name="Rectangle 3"/>
          <p:cNvSpPr/>
          <p:nvPr/>
        </p:nvSpPr>
        <p:spPr>
          <a:xfrm>
            <a:off x="685800" y="1447920"/>
            <a:ext cx="8001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onte-Carlo hits are digitized on a per-track basis </a:t>
            </a:r>
            <a:r>
              <a:rPr b="0" lang="ru-RU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ffectively NO track finder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0" name="Rectangle 3"/>
          <p:cNvSpPr/>
          <p:nvPr/>
        </p:nvSpPr>
        <p:spPr>
          <a:xfrm>
            <a:off x="685800" y="297180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Kalman filter </a:t>
            </a:r>
            <a:r>
              <a:rPr b="0" lang="ru-RU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teering in magnetic field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Precise on-the-fly accounting of material effects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1" name="Footer Placeholder 10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2" name="TextBox 10"/>
          <p:cNvSpPr/>
          <p:nvPr/>
        </p:nvSpPr>
        <p:spPr>
          <a:xfrm>
            <a:off x="6499080" y="2514600"/>
            <a:ext cx="21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MRS-B1 solenoi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design use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4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448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Example plots from tracking code 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36" name="Rectangle 3"/>
          <p:cNvSpPr/>
          <p:nvPr/>
        </p:nvSpPr>
        <p:spPr>
          <a:xfrm>
            <a:off x="0" y="8380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1 GeV/c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</a:t>
            </a:r>
            <a:r>
              <a:rPr b="0" lang="en-US" sz="2400" spc="-1" strike="noStrike" u="sng" baseline="30000">
                <a:solidFill>
                  <a:srgbClr val="515f7b"/>
                </a:solidFill>
                <a:uFillTx/>
                <a:latin typeface="Symbol"/>
                <a:ea typeface="Symbol"/>
              </a:rPr>
              <a:t>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tracks at 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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37" name="Picture 12" descr="chi-1.0gev-0.5eta.gif"/>
          <p:cNvPicPr/>
          <p:nvPr/>
        </p:nvPicPr>
        <p:blipFill>
          <a:blip r:embed="rId1"/>
          <a:stretch/>
        </p:blipFill>
        <p:spPr>
          <a:xfrm>
            <a:off x="152280" y="1295280"/>
            <a:ext cx="4346640" cy="2032200"/>
          </a:xfrm>
          <a:prstGeom prst="rect">
            <a:avLst/>
          </a:prstGeom>
          <a:ln w="0">
            <a:noFill/>
          </a:ln>
        </p:spPr>
      </p:pic>
      <p:pic>
        <p:nvPicPr>
          <p:cNvPr id="1238" name="Picture 13" descr="dp-1.0gev-0.5eta.gif"/>
          <p:cNvPicPr/>
          <p:nvPr/>
        </p:nvPicPr>
        <p:blipFill>
          <a:blip r:embed="rId2"/>
          <a:stretch/>
        </p:blipFill>
        <p:spPr>
          <a:xfrm>
            <a:off x="4495680" y="1295280"/>
            <a:ext cx="4346640" cy="2032200"/>
          </a:xfrm>
          <a:prstGeom prst="rect">
            <a:avLst/>
          </a:prstGeom>
          <a:ln w="0">
            <a:noFill/>
          </a:ln>
        </p:spPr>
      </p:pic>
      <p:pic>
        <p:nvPicPr>
          <p:cNvPr id="1239" name="Picture 14" descr="chi-32.0gev-3.0eta.gif"/>
          <p:cNvPicPr/>
          <p:nvPr/>
        </p:nvPicPr>
        <p:blipFill>
          <a:blip r:embed="rId3"/>
          <a:stretch/>
        </p:blipFill>
        <p:spPr>
          <a:xfrm>
            <a:off x="152280" y="4038480"/>
            <a:ext cx="4346640" cy="2032200"/>
          </a:xfrm>
          <a:prstGeom prst="rect">
            <a:avLst/>
          </a:prstGeom>
          <a:ln w="0">
            <a:noFill/>
          </a:ln>
        </p:spPr>
      </p:pic>
      <p:pic>
        <p:nvPicPr>
          <p:cNvPr id="1240" name="Picture 16" descr="dp-32.0gev-3.0eta.gif"/>
          <p:cNvPicPr/>
          <p:nvPr/>
        </p:nvPicPr>
        <p:blipFill>
          <a:blip r:embed="rId4"/>
          <a:stretch/>
        </p:blipFill>
        <p:spPr>
          <a:xfrm>
            <a:off x="4495680" y="4038480"/>
            <a:ext cx="4346640" cy="203220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3"/>
          <p:cNvSpPr/>
          <p:nvPr/>
        </p:nvSpPr>
        <p:spPr>
          <a:xfrm>
            <a:off x="0" y="35812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32 GeV/c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</a:t>
            </a:r>
            <a:r>
              <a:rPr b="0" lang="en-US" sz="2400" spc="-1" strike="noStrike" u="sng" baseline="30000">
                <a:solidFill>
                  <a:srgbClr val="515f7b"/>
                </a:solidFill>
                <a:uFillTx/>
                <a:latin typeface="Symbol"/>
                <a:ea typeface="Symbol"/>
              </a:rPr>
              <a:t>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tracks at </a:t>
            </a:r>
            <a:r>
              <a:rPr b="0" lang="en-US" sz="24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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2" name="TextBox 19"/>
          <p:cNvSpPr/>
          <p:nvPr/>
        </p:nvSpPr>
        <p:spPr>
          <a:xfrm>
            <a:off x="653400" y="1600200"/>
            <a:ext cx="130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&lt;ndf&gt; = 206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3" name="TextBox 20"/>
          <p:cNvSpPr/>
          <p:nvPr/>
        </p:nvSpPr>
        <p:spPr>
          <a:xfrm>
            <a:off x="2409480" y="4343400"/>
            <a:ext cx="107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&lt;ndf&gt; = 9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4" name="TextBox 21"/>
          <p:cNvSpPr/>
          <p:nvPr/>
        </p:nvSpPr>
        <p:spPr>
          <a:xfrm>
            <a:off x="2667960" y="6095880"/>
            <a:ext cx="645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look very reasonable from statistical point of view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6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Momentum resolution plot#1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8" name="Rectangle 3"/>
          <p:cNvSpPr/>
          <p:nvPr/>
        </p:nvSpPr>
        <p:spPr>
          <a:xfrm>
            <a:off x="38088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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track momentum resolution vs. pseudo-rapidity  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49" name="TextBox 9"/>
          <p:cNvSpPr/>
          <p:nvPr/>
        </p:nvSpPr>
        <p:spPr>
          <a:xfrm>
            <a:off x="50040" y="6019920"/>
            <a:ext cx="91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expect 2% or better momentum resolution in the whole kinematic range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50" name="Picture 10" descr="dp-vs-eta.gif"/>
          <p:cNvPicPr/>
          <p:nvPr/>
        </p:nvPicPr>
        <p:blipFill>
          <a:blip r:embed="rId1"/>
          <a:stretch/>
        </p:blipFill>
        <p:spPr>
          <a:xfrm>
            <a:off x="1219320" y="1600200"/>
            <a:ext cx="707688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Momentum resolution plot#2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4" name="Rectangle 3"/>
          <p:cNvSpPr/>
          <p:nvPr/>
        </p:nvSpPr>
        <p:spPr>
          <a:xfrm>
            <a:off x="380880" y="990720"/>
            <a:ext cx="8458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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track momentum resolution at </a:t>
            </a: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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vs. Silicon thickness  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5" name="TextBox 9"/>
          <p:cNvSpPr/>
          <p:nvPr/>
        </p:nvSpPr>
        <p:spPr>
          <a:xfrm>
            <a:off x="-36720" y="6019920"/>
            <a:ext cx="919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~flat over inspected momentum range because of very small Si pixel size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56" name="Picture 11" descr="dp-vs-thickness.gif"/>
          <p:cNvPicPr/>
          <p:nvPr/>
        </p:nvPicPr>
        <p:blipFill>
          <a:blip r:embed="rId1"/>
          <a:stretch/>
        </p:blipFill>
        <p:spPr>
          <a:xfrm>
            <a:off x="914400" y="16002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8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Momentum resolution plot#3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380880" y="9144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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track momentum resolution at </a:t>
            </a:r>
            <a:r>
              <a:rPr b="0" lang="en-US" sz="2400" spc="-1" strike="noStrike">
                <a:solidFill>
                  <a:srgbClr val="515f7b"/>
                </a:solidFill>
                <a:latin typeface="Symbol"/>
                <a:ea typeface="Symbol"/>
              </a:rPr>
              <a:t></a:t>
            </a:r>
            <a:r>
              <a:rPr b="0" lang="en-US" sz="2400" spc="-1" strike="noStrike">
                <a:solidFill>
                  <a:srgbClr val="515f7b"/>
                </a:solidFill>
                <a:latin typeface="Tahoma"/>
              </a:rPr>
              <a:t>vs. Silicon pixel size  </a:t>
            </a:r>
            <a:r>
              <a:rPr b="0" lang="en-US" sz="2400" spc="-1" strike="noStrike" baseline="30000">
                <a:solidFill>
                  <a:srgbClr val="515f7b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1" name="TextBox 6"/>
          <p:cNvSpPr/>
          <p:nvPr/>
        </p:nvSpPr>
        <p:spPr>
          <a:xfrm>
            <a:off x="98280" y="6019920"/>
            <a:ext cx="91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20 micron pixel size is essential to maintain good momentum resolution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62" name="Picture 7" descr="dp-vs-pixel-size.gif"/>
          <p:cNvPicPr/>
          <p:nvPr/>
        </p:nvPicPr>
        <p:blipFill>
          <a:blip r:embed="rId1"/>
          <a:stretch/>
        </p:blipFill>
        <p:spPr>
          <a:xfrm>
            <a:off x="1143000" y="16002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4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er “designer” tool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Allow to easily add “simple” tracking detector templates to the “official”  geo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Require next to zero coding effor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7" name="TextBox 7"/>
          <p:cNvSpPr/>
          <p:nvPr/>
        </p:nvSpPr>
        <p:spPr>
          <a:xfrm>
            <a:off x="1489320" y="5943600"/>
            <a:ext cx="784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00"/>
                </a:solidFill>
                <a:uFillTx/>
                <a:latin typeface="Tahoma"/>
              </a:rPr>
              <a:t>-&gt; see tutorials/designer/tracking directory for detail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68" name="Picture 8" descr="example-tracker.png"/>
          <p:cNvPicPr/>
          <p:nvPr/>
        </p:nvPicPr>
        <p:blipFill>
          <a:blip r:embed="rId1"/>
          <a:srcRect l="1124" t="12668" r="9376" b="5333"/>
          <a:stretch/>
        </p:blipFill>
        <p:spPr>
          <a:xfrm>
            <a:off x="228600" y="3200400"/>
            <a:ext cx="4267080" cy="2590920"/>
          </a:xfrm>
          <a:prstGeom prst="rect">
            <a:avLst/>
          </a:prstGeom>
          <a:ln w="0">
            <a:noFill/>
          </a:ln>
        </p:spPr>
      </p:pic>
      <p:pic>
        <p:nvPicPr>
          <p:cNvPr id="1269" name="Picture 10" descr="example-dp.gif"/>
          <p:cNvPicPr/>
          <p:nvPr/>
        </p:nvPicPr>
        <p:blipFill>
          <a:blip r:embed="rId2"/>
          <a:stretch/>
        </p:blipFill>
        <p:spPr>
          <a:xfrm>
            <a:off x="4815000" y="3200400"/>
            <a:ext cx="4151160" cy="2590920"/>
          </a:xfrm>
          <a:prstGeom prst="rect">
            <a:avLst/>
          </a:prstGeom>
          <a:ln w="0">
            <a:noFill/>
          </a:ln>
        </p:spPr>
      </p:pic>
      <p:sp>
        <p:nvSpPr>
          <p:cNvPr id="1270" name="TextBox 11"/>
          <p:cNvSpPr/>
          <p:nvPr/>
        </p:nvSpPr>
        <p:spPr>
          <a:xfrm>
            <a:off x="157320" y="2590920"/>
            <a:ext cx="84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444ba"/>
                </a:solidFill>
                <a:uFillTx/>
                <a:latin typeface="Tahoma"/>
              </a:rPr>
              <a:t>Which momentum resolution for 10 GeV/c pions will I get with 10 MAPS layers at </a:t>
            </a:r>
            <a:r>
              <a:rPr b="0" lang="en-US" sz="1600" spc="-1" strike="noStrike" u="sng">
                <a:solidFill>
                  <a:srgbClr val="b444ba"/>
                </a:solidFill>
                <a:uFillTx/>
                <a:latin typeface="Symbol"/>
                <a:ea typeface="Symbol"/>
              </a:rPr>
              <a:t></a:t>
            </a:r>
            <a:r>
              <a:rPr b="0" lang="en-US" sz="1600" spc="-1" strike="noStrike" u="sng">
                <a:solidFill>
                  <a:srgbClr val="b444ba"/>
                </a:solidFill>
                <a:uFillTx/>
                <a:latin typeface="Tahoma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er “designer” tool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4" name="Rectangle 3"/>
          <p:cNvSpPr/>
          <p:nvPr/>
        </p:nvSpPr>
        <p:spPr>
          <a:xfrm>
            <a:off x="685800" y="1371600"/>
            <a:ext cx="84582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reate geometry file (few dozens of lines ROOT C script)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nclude few lines in “standard” sim/digi/reco scripts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Analyze output ROOT file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75" name="Picture 15" descr="lines.eps"/>
          <p:cNvPicPr/>
          <p:nvPr/>
        </p:nvPicPr>
        <p:blipFill>
          <a:blip r:embed="rId1"/>
          <a:stretch/>
        </p:blipFill>
        <p:spPr>
          <a:xfrm rot="5400000">
            <a:off x="3036960" y="543600"/>
            <a:ext cx="3221280" cy="7010280"/>
          </a:xfrm>
          <a:prstGeom prst="rect">
            <a:avLst/>
          </a:prstGeom>
          <a:ln w="0">
            <a:noFill/>
          </a:ln>
        </p:spPr>
      </p:pic>
      <p:sp>
        <p:nvSpPr>
          <p:cNvPr id="1276" name="TextBox 17"/>
          <p:cNvSpPr/>
          <p:nvPr/>
        </p:nvSpPr>
        <p:spPr>
          <a:xfrm>
            <a:off x="273600" y="8380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00"/>
                </a:solidFill>
                <a:uFillTx/>
                <a:latin typeface="Tahoma"/>
              </a:rPr>
              <a:t>-&gt; workflow sequence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0" y="20574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Calorimeters in EicRoot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79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General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1" name="Rectangle 3"/>
          <p:cNvSpPr/>
          <p:nvPr/>
        </p:nvSpPr>
        <p:spPr>
          <a:xfrm>
            <a:off x="380880" y="114300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ode written from scratch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Unified interface (geometry definition, digitization, clustering) for all EIC calorimeter types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ather detailed digitization implemented: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2" name="Rectangle 3"/>
          <p:cNvSpPr/>
          <p:nvPr/>
        </p:nvSpPr>
        <p:spPr>
          <a:xfrm>
            <a:off x="838080" y="3657600"/>
            <a:ext cx="7315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onfigurable light yiel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xponential decay time; light collection in a time window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attenuation length; possible light reflection on one “cell” en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iPM dark counting rate; APD gain, ENF, ENC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onfigurable thresholds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5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ontent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Overall statu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Update on track resolution studies</a:t>
            </a:r>
            <a:r>
              <a:rPr b="0" lang="ru-RU" sz="3600" spc="-1" strike="noStrike">
                <a:solidFill>
                  <a:srgbClr val="515f7b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Tahoma"/>
              </a:rPr>
              <a:t>Calorimeter code development &amp; studi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Rectangle 3"/>
          <p:cNvSpPr/>
          <p:nvPr/>
        </p:nvSpPr>
        <p:spPr>
          <a:xfrm>
            <a:off x="990720" y="1905120"/>
            <a:ext cx="7696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VN repository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nterface to EIC smearing generator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Tracking detector “designer” tools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Backward EM Calorimeter (BEMC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86" name="Picture 5" descr="calorimeter-final.png"/>
          <p:cNvPicPr/>
          <p:nvPr/>
        </p:nvPicPr>
        <p:blipFill>
          <a:blip r:embed="rId1"/>
          <a:srcRect l="26250" t="12668" r="30000" b="5333"/>
          <a:stretch/>
        </p:blipFill>
        <p:spPr>
          <a:xfrm>
            <a:off x="228600" y="990720"/>
            <a:ext cx="4192560" cy="4419360"/>
          </a:xfrm>
          <a:prstGeom prst="rect">
            <a:avLst/>
          </a:prstGeom>
          <a:ln w="0">
            <a:noFill/>
          </a:ln>
        </p:spPr>
      </p:pic>
      <p:sp>
        <p:nvSpPr>
          <p:cNvPr id="1287" name="Rectangle 3"/>
          <p:cNvSpPr/>
          <p:nvPr/>
        </p:nvSpPr>
        <p:spPr>
          <a:xfrm>
            <a:off x="4419720" y="1066680"/>
            <a:ext cx="4572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PWO-II, layout a la CMS &amp; PANDA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2500mm from the IP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both projective and non-projective geometry implemente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 based on PANDA R&amp;D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88" name="Picture 7" descr="calorimeter-final-zoom.png"/>
          <p:cNvPicPr/>
          <p:nvPr/>
        </p:nvPicPr>
        <p:blipFill>
          <a:blip r:embed="rId2"/>
          <a:srcRect l="22874" t="25333" r="27000" b="17333"/>
          <a:stretch/>
        </p:blipFill>
        <p:spPr>
          <a:xfrm>
            <a:off x="4648320" y="3429000"/>
            <a:ext cx="3886200" cy="2500200"/>
          </a:xfrm>
          <a:prstGeom prst="rect">
            <a:avLst/>
          </a:prstGeom>
          <a:ln w="0">
            <a:noFill/>
          </a:ln>
        </p:spPr>
      </p:pic>
      <p:sp>
        <p:nvSpPr>
          <p:cNvPr id="1289" name="TextBox 8"/>
          <p:cNvSpPr/>
          <p:nvPr/>
        </p:nvSpPr>
        <p:spPr>
          <a:xfrm>
            <a:off x="585000" y="563868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</a:rPr>
              <a:t>10 GeV/c electron hitting one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</a:rPr>
              <a:t>of the four BEMC quadrants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0" name="TextBox 9"/>
          <p:cNvSpPr/>
          <p:nvPr/>
        </p:nvSpPr>
        <p:spPr>
          <a:xfrm>
            <a:off x="4294800" y="6019920"/>
            <a:ext cx="495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</a:rPr>
              <a:t>Same event (details of shower development)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BEMC energy resolution plot#1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4" name="TextBox 7"/>
          <p:cNvSpPr/>
          <p:nvPr/>
        </p:nvSpPr>
        <p:spPr>
          <a:xfrm>
            <a:off x="1458000" y="5943600"/>
            <a:ext cx="76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projective geometry may lag behind in terms of resolution?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5" name="TextBox 10"/>
          <p:cNvSpPr/>
          <p:nvPr/>
        </p:nvSpPr>
        <p:spPr>
          <a:xfrm>
            <a:off x="6615720" y="8380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electrons at </a:t>
            </a:r>
            <a:r>
              <a:rPr b="0" lang="en-US" sz="18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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296" name="Picture 10" descr="bemc-pr-vs-np.gif"/>
          <p:cNvPicPr/>
          <p:nvPr/>
        </p:nvPicPr>
        <p:blipFill>
          <a:blip r:embed="rId1"/>
          <a:stretch/>
        </p:blipFill>
        <p:spPr>
          <a:xfrm>
            <a:off x="990720" y="1447920"/>
            <a:ext cx="707688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8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BEMC energy resolution plot#2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0" name="Rectangle 3"/>
          <p:cNvSpPr/>
          <p:nvPr/>
        </p:nvSpPr>
        <p:spPr>
          <a:xfrm>
            <a:off x="304920" y="556272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“</a:t>
            </a: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ealistic” digitization: light yield 17pe/MeV; APD gain 50, ENF 2.0, ENC 4.2k; 10 MeV single cell threshold;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1" name="TextBox 10"/>
          <p:cNvSpPr/>
          <p:nvPr/>
        </p:nvSpPr>
        <p:spPr>
          <a:xfrm>
            <a:off x="5209200" y="762120"/>
            <a:ext cx="39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non-projective geometry; </a:t>
            </a:r>
            <a:r>
              <a:rPr b="0" lang="en-US" sz="1800" spc="-1" strike="noStrike" u="sng">
                <a:solidFill>
                  <a:srgbClr val="515f7b"/>
                </a:solidFill>
                <a:uFillTx/>
                <a:latin typeface="Symbol"/>
                <a:ea typeface="Symbol"/>
              </a:rPr>
              <a:t>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2" name="TextBox 7"/>
          <p:cNvSpPr/>
          <p:nvPr/>
        </p:nvSpPr>
        <p:spPr>
          <a:xfrm>
            <a:off x="898200" y="6095880"/>
            <a:ext cx="81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4ba"/>
                </a:solidFill>
                <a:latin typeface="Tahoma"/>
              </a:rPr>
              <a:t>-&gt; would be interesting to check sensitivity to all settings in detail 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03" name="Picture 7" descr="bemc-np-ideal-vs-real.gif"/>
          <p:cNvPicPr/>
          <p:nvPr/>
        </p:nvPicPr>
        <p:blipFill>
          <a:blip r:embed="rId1"/>
          <a:stretch/>
        </p:blipFill>
        <p:spPr>
          <a:xfrm>
            <a:off x="838080" y="129528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5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Forward EM Calorimeter (FEMC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07" name="Rectangle 3"/>
          <p:cNvSpPr/>
          <p:nvPr/>
        </p:nvSpPr>
        <p:spPr>
          <a:xfrm>
            <a:off x="380880" y="4267080"/>
            <a:ext cx="80773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tungsten powder scintillating fiber sampling calorimeter technology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+2500mm from the IP; non-projective geometry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ampling fraction for e/m showers ~2.6%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edium speed” simulation (up to energy deposit in fiber cores)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easonably detailed digitization; “ideal” clustering code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08" name="Picture 5" descr="femc.png"/>
          <p:cNvPicPr/>
          <p:nvPr/>
        </p:nvPicPr>
        <p:blipFill>
          <a:blip r:embed="rId1"/>
          <a:srcRect l="16126" t="13333" r="1124" b="15335"/>
          <a:stretch/>
        </p:blipFill>
        <p:spPr>
          <a:xfrm>
            <a:off x="228600" y="990720"/>
            <a:ext cx="59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6" descr="femc-tower.png"/>
          <p:cNvPicPr/>
          <p:nvPr/>
        </p:nvPicPr>
        <p:blipFill>
          <a:blip r:embed="rId2"/>
          <a:srcRect l="4876" t="16000" r="7876" b="11332"/>
          <a:stretch/>
        </p:blipFill>
        <p:spPr>
          <a:xfrm>
            <a:off x="6477120" y="2362320"/>
            <a:ext cx="2439720" cy="114300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7" descr="femc-fiber.png"/>
          <p:cNvPicPr/>
          <p:nvPr/>
        </p:nvPicPr>
        <p:blipFill>
          <a:blip r:embed="rId3"/>
          <a:srcRect l="30000" t="8668" r="18750" b="5333"/>
          <a:stretch/>
        </p:blipFill>
        <p:spPr>
          <a:xfrm>
            <a:off x="6705720" y="838080"/>
            <a:ext cx="625320" cy="590760"/>
          </a:xfrm>
          <a:prstGeom prst="rect">
            <a:avLst/>
          </a:prstGeom>
          <a:ln w="0">
            <a:noFill/>
          </a:ln>
        </p:spPr>
      </p:pic>
      <p:sp>
        <p:nvSpPr>
          <p:cNvPr id="1311" name="TextBox 8"/>
          <p:cNvSpPr/>
          <p:nvPr/>
        </p:nvSpPr>
        <p:spPr>
          <a:xfrm>
            <a:off x="6264360" y="3429000"/>
            <a:ext cx="30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tower (and fiber) geometry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described precisely 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12" name="Picture 9" descr="femc-fiber.png"/>
          <p:cNvPicPr/>
          <p:nvPr/>
        </p:nvPicPr>
        <p:blipFill>
          <a:blip r:embed="rId4"/>
          <a:srcRect l="30000" t="8668" r="18750" b="5333"/>
          <a:stretch/>
        </p:blipFill>
        <p:spPr>
          <a:xfrm>
            <a:off x="6705720" y="1905120"/>
            <a:ext cx="625320" cy="59040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0" descr="femc-fiber.png"/>
          <p:cNvPicPr/>
          <p:nvPr/>
        </p:nvPicPr>
        <p:blipFill>
          <a:blip r:embed="rId5"/>
          <a:srcRect l="30000" t="8668" r="18750" b="5333"/>
          <a:stretch/>
        </p:blipFill>
        <p:spPr>
          <a:xfrm>
            <a:off x="7010280" y="1371600"/>
            <a:ext cx="625680" cy="5904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11" descr="femc-fiber.png"/>
          <p:cNvPicPr/>
          <p:nvPr/>
        </p:nvPicPr>
        <p:blipFill>
          <a:blip r:embed="rId6"/>
          <a:srcRect l="30000" t="8668" r="18750" b="5333"/>
          <a:stretch/>
        </p:blipFill>
        <p:spPr>
          <a:xfrm>
            <a:off x="7315200" y="838080"/>
            <a:ext cx="625320" cy="59076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12" descr="femc-fiber.png"/>
          <p:cNvPicPr/>
          <p:nvPr/>
        </p:nvPicPr>
        <p:blipFill>
          <a:blip r:embed="rId7"/>
          <a:srcRect l="30000" t="8668" r="18750" b="5333"/>
          <a:stretch/>
        </p:blipFill>
        <p:spPr>
          <a:xfrm>
            <a:off x="6400800" y="1371600"/>
            <a:ext cx="625320" cy="5904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13" descr="femc-fiber.png"/>
          <p:cNvPicPr/>
          <p:nvPr/>
        </p:nvPicPr>
        <p:blipFill>
          <a:blip r:embed="rId8"/>
          <a:srcRect l="30000" t="8668" r="18750" b="5333"/>
          <a:stretch/>
        </p:blipFill>
        <p:spPr>
          <a:xfrm>
            <a:off x="7620120" y="1371600"/>
            <a:ext cx="625320" cy="5904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14" descr="femc-fiber.png"/>
          <p:cNvPicPr/>
          <p:nvPr/>
        </p:nvPicPr>
        <p:blipFill>
          <a:blip r:embed="rId9"/>
          <a:srcRect l="30000" t="8668" r="18750" b="5333"/>
          <a:stretch/>
        </p:blipFill>
        <p:spPr>
          <a:xfrm>
            <a:off x="7315200" y="1905120"/>
            <a:ext cx="625320" cy="59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19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FEMC energy resolution study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21" name="Picture 6" descr="femc-orig.gif"/>
          <p:cNvPicPr/>
          <p:nvPr/>
        </p:nvPicPr>
        <p:blipFill>
          <a:blip r:embed="rId1"/>
          <a:stretch/>
        </p:blipFill>
        <p:spPr>
          <a:xfrm>
            <a:off x="914400" y="1219320"/>
            <a:ext cx="7077240" cy="4195800"/>
          </a:xfrm>
          <a:prstGeom prst="rect">
            <a:avLst/>
          </a:prstGeom>
          <a:ln w="0">
            <a:noFill/>
          </a:ln>
        </p:spPr>
      </p:pic>
      <p:sp>
        <p:nvSpPr>
          <p:cNvPr id="1322" name="TextBox 7"/>
          <p:cNvSpPr/>
          <p:nvPr/>
        </p:nvSpPr>
        <p:spPr>
          <a:xfrm>
            <a:off x="1421640" y="6095880"/>
            <a:ext cx="795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good agreement with original MC studies and measured data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3" name="Rectangle 3"/>
          <p:cNvSpPr/>
          <p:nvPr/>
        </p:nvSpPr>
        <p:spPr>
          <a:xfrm>
            <a:off x="304920" y="5486400"/>
            <a:ext cx="8076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“</a:t>
            </a: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ealistic” digitization: 40MHz SiPM noise in 50ns gate; 4m attenuation length; 5 pixel single tower threshold; 70% light reflection on upstream fiber end;  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4" name="TextBox 10"/>
          <p:cNvSpPr/>
          <p:nvPr/>
        </p:nvSpPr>
        <p:spPr>
          <a:xfrm>
            <a:off x="4300200" y="76212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3 degree track-to-tower-axis incident angle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6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FEMC tower “optimization”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28" name="Picture 5" descr="femc-safe-vs-orig.gif"/>
          <p:cNvPicPr/>
          <p:nvPr/>
        </p:nvPicPr>
        <p:blipFill>
          <a:blip r:embed="rId1"/>
          <a:stretch/>
        </p:blipFill>
        <p:spPr>
          <a:xfrm>
            <a:off x="304920" y="1295280"/>
            <a:ext cx="6368760" cy="3776760"/>
          </a:xfrm>
          <a:prstGeom prst="rect">
            <a:avLst/>
          </a:prstGeom>
          <a:ln w="0">
            <a:noFill/>
          </a:ln>
        </p:spPr>
      </p:pic>
      <p:pic>
        <p:nvPicPr>
          <p:cNvPr id="1329" name="Picture 6" descr="original-mesh.png"/>
          <p:cNvPicPr/>
          <p:nvPr/>
        </p:nvPicPr>
        <p:blipFill>
          <a:blip r:embed="rId2"/>
          <a:srcRect l="10035" t="13458" r="10035" b="13458"/>
          <a:stretch/>
        </p:blipFill>
        <p:spPr>
          <a:xfrm>
            <a:off x="7010280" y="990720"/>
            <a:ext cx="1922760" cy="196668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7" descr="new-safe-mesh.png"/>
          <p:cNvPicPr/>
          <p:nvPr/>
        </p:nvPicPr>
        <p:blipFill>
          <a:blip r:embed="rId3"/>
          <a:srcRect l="10035" t="13458" r="10035" b="14577"/>
          <a:stretch/>
        </p:blipFill>
        <p:spPr>
          <a:xfrm>
            <a:off x="7010280" y="3657600"/>
            <a:ext cx="1922760" cy="1936800"/>
          </a:xfrm>
          <a:prstGeom prst="rect">
            <a:avLst/>
          </a:prstGeom>
          <a:ln w="0">
            <a:noFill/>
          </a:ln>
        </p:spPr>
      </p:pic>
      <p:sp>
        <p:nvSpPr>
          <p:cNvPr id="1331" name="TextBox 8"/>
          <p:cNvSpPr/>
          <p:nvPr/>
        </p:nvSpPr>
        <p:spPr>
          <a:xfrm>
            <a:off x="7125480" y="2971800"/>
            <a:ext cx="177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original mesh 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2" name="TextBox 9"/>
          <p:cNvSpPr/>
          <p:nvPr/>
        </p:nvSpPr>
        <p:spPr>
          <a:xfrm>
            <a:off x="6966720" y="5715000"/>
            <a:ext cx="20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optimized mesh 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3" name="TextBox 10"/>
          <p:cNvSpPr/>
          <p:nvPr/>
        </p:nvSpPr>
        <p:spPr>
          <a:xfrm>
            <a:off x="975600" y="5410080"/>
            <a:ext cx="608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optimized mesh design can probably decrease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    “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constant term” in energy resolution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5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Barrel EM Calorimeter (CEMC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37" name="Picture 4" descr="cemc.png"/>
          <p:cNvPicPr/>
          <p:nvPr/>
        </p:nvPicPr>
        <p:blipFill>
          <a:blip r:embed="rId1"/>
          <a:srcRect l="24002" t="14002" r="12000" b="5333"/>
          <a:stretch/>
        </p:blipFill>
        <p:spPr>
          <a:xfrm>
            <a:off x="228600" y="1143000"/>
            <a:ext cx="4191120" cy="2971800"/>
          </a:xfrm>
          <a:prstGeom prst="rect">
            <a:avLst/>
          </a:prstGeom>
          <a:ln w="0">
            <a:noFill/>
          </a:ln>
        </p:spPr>
      </p:pic>
      <p:sp>
        <p:nvSpPr>
          <p:cNvPr id="1338" name="Rectangle 3"/>
          <p:cNvSpPr/>
          <p:nvPr/>
        </p:nvSpPr>
        <p:spPr>
          <a:xfrm>
            <a:off x="380880" y="4952880"/>
            <a:ext cx="80773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ame tungsten powder + fibers technology as FEMC, …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but towers are tapered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non-projective; radial distance from beam line [815 .. 980]mm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39" name="Picture 7" descr="cemc-vs-energy.gif"/>
          <p:cNvPicPr/>
          <p:nvPr/>
        </p:nvPicPr>
        <p:blipFill>
          <a:blip r:embed="rId2"/>
          <a:stretch/>
        </p:blipFill>
        <p:spPr>
          <a:xfrm>
            <a:off x="4724280" y="1143000"/>
            <a:ext cx="4246560" cy="3051000"/>
          </a:xfrm>
          <a:prstGeom prst="rect">
            <a:avLst/>
          </a:prstGeom>
          <a:ln w="0">
            <a:noFill/>
          </a:ln>
        </p:spPr>
      </p:pic>
      <p:sp>
        <p:nvSpPr>
          <p:cNvPr id="1340" name="TextBox 8"/>
          <p:cNvSpPr/>
          <p:nvPr/>
        </p:nvSpPr>
        <p:spPr>
          <a:xfrm>
            <a:off x="3461400" y="4191120"/>
            <a:ext cx="584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barrel calorimeter collects less light, but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response (at a fixed 3</a:t>
            </a:r>
            <a:r>
              <a:rPr b="0" lang="en-US" sz="2000" spc="-1" strike="noStrike" baseline="30000">
                <a:solidFill>
                  <a:srgbClr val="008000"/>
                </a:solidFill>
                <a:latin typeface="Tahoma"/>
              </a:rPr>
              <a:t>o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angle) is perfectly linear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EMC energy resolution plot#1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4" name="TextBox 7"/>
          <p:cNvSpPr/>
          <p:nvPr/>
        </p:nvSpPr>
        <p:spPr>
          <a:xfrm>
            <a:off x="990720" y="5715000"/>
            <a:ext cx="764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simulation does not show any noticeable difference in energy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resolution between straight and tapered tower calorimeters 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5" name="TextBox 8"/>
          <p:cNvSpPr/>
          <p:nvPr/>
        </p:nvSpPr>
        <p:spPr>
          <a:xfrm>
            <a:off x="4300200" y="762120"/>
            <a:ext cx="47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3 degree track-to-tower-axis incident angle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46" name="Picture 9" descr="cemc-vs-femc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8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EMC energy resolution plot#2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0" name="TextBox 7"/>
          <p:cNvSpPr/>
          <p:nvPr/>
        </p:nvSpPr>
        <p:spPr>
          <a:xfrm>
            <a:off x="990720" y="5715000"/>
            <a:ext cx="76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energy response goes down with polar angle because of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effectively decreasing sampling fraction; quite reasonable  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1" name="TextBox 8"/>
          <p:cNvSpPr/>
          <p:nvPr/>
        </p:nvSpPr>
        <p:spPr>
          <a:xfrm>
            <a:off x="5907240" y="9144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8 GeV/c electrons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52" name="Picture 8" descr="cemc-e0-vs-theta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4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EMC energy resolution plot#3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6" name="TextBox 7"/>
          <p:cNvSpPr/>
          <p:nvPr/>
        </p:nvSpPr>
        <p:spPr>
          <a:xfrm>
            <a:off x="990720" y="5715000"/>
            <a:ext cx="76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-&gt; energy resolution degrades with polar angle because of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8000"/>
                </a:solidFill>
                <a:latin typeface="Tahoma"/>
              </a:rPr>
              <a:t>effectively decreasing sampling frequency (?)  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57" name="TextBox 8"/>
          <p:cNvSpPr/>
          <p:nvPr/>
        </p:nvSpPr>
        <p:spPr>
          <a:xfrm>
            <a:off x="5907240" y="9144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15f7b"/>
                </a:solidFill>
                <a:uFillTx/>
                <a:latin typeface="Tahoma"/>
              </a:rPr>
              <a:t>8 GeV/c electrons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58" name="Picture 7" descr="cemc-de-vs-theta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77240" cy="419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0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EIC in FairRoot framework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28240" y="3505320"/>
            <a:ext cx="2057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VMC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VG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Boost” libr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Text Box 4"/>
          <p:cNvSpPr/>
          <p:nvPr/>
        </p:nvSpPr>
        <p:spPr>
          <a:xfrm>
            <a:off x="249840" y="2438280"/>
            <a:ext cx="284004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FairRoot external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package bundle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4" name="Text Box 4"/>
          <p:cNvSpPr/>
          <p:nvPr/>
        </p:nvSpPr>
        <p:spPr>
          <a:xfrm>
            <a:off x="3841200" y="2438280"/>
            <a:ext cx="18676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FairBase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C++ classe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5" name="Text Box 4"/>
          <p:cNvSpPr/>
          <p:nvPr/>
        </p:nvSpPr>
        <p:spPr>
          <a:xfrm>
            <a:off x="6492600" y="1676520"/>
            <a:ext cx="1578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Cbm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6" name="Text Box 4"/>
          <p:cNvSpPr/>
          <p:nvPr/>
        </p:nvSpPr>
        <p:spPr>
          <a:xfrm>
            <a:off x="6514200" y="2209680"/>
            <a:ext cx="1471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R3B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7" name="Text Box 4"/>
          <p:cNvSpPr/>
          <p:nvPr/>
        </p:nvSpPr>
        <p:spPr>
          <a:xfrm>
            <a:off x="6453360" y="3276720"/>
            <a:ext cx="1925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PandaRoot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8" name="Text Box 4"/>
          <p:cNvSpPr/>
          <p:nvPr/>
        </p:nvSpPr>
        <p:spPr>
          <a:xfrm>
            <a:off x="7262640" y="5181480"/>
            <a:ext cx="16606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eic-smear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59" name="Right Arrow 16"/>
          <p:cNvSpPr/>
          <p:nvPr/>
        </p:nvSpPr>
        <p:spPr>
          <a:xfrm>
            <a:off x="3200400" y="27432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0" name="Right Arrow 17"/>
          <p:cNvSpPr/>
          <p:nvPr/>
        </p:nvSpPr>
        <p:spPr>
          <a:xfrm>
            <a:off x="5943600" y="17524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1" name="Right Arrow 18"/>
          <p:cNvSpPr/>
          <p:nvPr/>
        </p:nvSpPr>
        <p:spPr>
          <a:xfrm>
            <a:off x="5943600" y="228600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2" name="Right Arrow 19"/>
          <p:cNvSpPr/>
          <p:nvPr/>
        </p:nvSpPr>
        <p:spPr>
          <a:xfrm>
            <a:off x="5943600" y="33526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3" name="Right Arrow 20"/>
          <p:cNvSpPr/>
          <p:nvPr/>
        </p:nvSpPr>
        <p:spPr>
          <a:xfrm rot="16200000">
            <a:off x="7848360" y="464796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27c71b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4" name="Text Box 4"/>
          <p:cNvSpPr/>
          <p:nvPr/>
        </p:nvSpPr>
        <p:spPr>
          <a:xfrm>
            <a:off x="7467480" y="3962520"/>
            <a:ext cx="136548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ic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5" name="Bent-Up Arrow 24"/>
          <p:cNvSpPr/>
          <p:nvPr/>
        </p:nvSpPr>
        <p:spPr>
          <a:xfrm rot="5400000">
            <a:off x="6904800" y="3763080"/>
            <a:ext cx="457200" cy="550800"/>
          </a:xfrm>
          <a:prstGeom prst="pie">
            <a:avLst/>
          </a:prstGeom>
          <a:solidFill>
            <a:srgbClr val="27c71b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228600" y="5410080"/>
            <a:ext cx="8763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-&gt; Make best use of FairRoot development </a:t>
            </a:r>
            <a:r>
              <a:rPr b="0" lang="ru-RU" sz="24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  <a:ea typeface="ＭＳ Ｐゴシック"/>
              </a:rPr>
              <a:t>-&gt; Utilize efficiently existing codes developed by EIC taskforce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7" name="Rectangle 3"/>
          <p:cNvSpPr/>
          <p:nvPr/>
        </p:nvSpPr>
        <p:spPr>
          <a:xfrm>
            <a:off x="0" y="9907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FairRoot is officially maintained by GSI; dedicated developer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O(10) active experiments; O(100) user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8" name="Text Box 4"/>
          <p:cNvSpPr/>
          <p:nvPr/>
        </p:nvSpPr>
        <p:spPr>
          <a:xfrm>
            <a:off x="6502320" y="2743200"/>
            <a:ext cx="441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afbf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69" name="Rectangle 3"/>
          <p:cNvSpPr/>
          <p:nvPr/>
        </p:nvSpPr>
        <p:spPr>
          <a:xfrm>
            <a:off x="3429000" y="3505320"/>
            <a:ext cx="24382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nterface to GEANT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agnetic fields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Parameter database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C stack handling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0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alorimeter “designer” tool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Allow to easily add “simple” calorimeter detector templates to the “official”  geome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Require next to zero coding effort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TextBox 11"/>
          <p:cNvSpPr/>
          <p:nvPr/>
        </p:nvSpPr>
        <p:spPr>
          <a:xfrm>
            <a:off x="201240" y="2666880"/>
            <a:ext cx="85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444ba"/>
                </a:solidFill>
                <a:uFillTx/>
                <a:latin typeface="Tahoma"/>
              </a:rPr>
              <a:t>Which energy resolution for 1 GeV/c electrons will I get with a “basic” PWO calorimeter</a:t>
            </a:r>
            <a:r>
              <a:rPr b="0" lang="en-US" sz="1600" spc="-1" strike="noStrike" u="sng">
                <a:solidFill>
                  <a:srgbClr val="b444ba"/>
                </a:solidFill>
                <a:uFillTx/>
                <a:latin typeface="Symbol"/>
                <a:ea typeface="Symbol"/>
              </a:rPr>
              <a:t></a:t>
            </a:r>
            <a:r>
              <a:rPr b="0" lang="en-US" sz="1600" spc="-1" strike="noStrike" u="sng">
                <a:solidFill>
                  <a:srgbClr val="b444ba"/>
                </a:solidFill>
                <a:uFillTx/>
                <a:latin typeface="Tahoma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364" name="Picture 12" descr="example-calorimetry.png"/>
          <p:cNvPicPr/>
          <p:nvPr/>
        </p:nvPicPr>
        <p:blipFill>
          <a:blip r:embed="rId1"/>
          <a:srcRect l="0" t="7335" r="0" b="4000"/>
          <a:stretch/>
        </p:blipFill>
        <p:spPr>
          <a:xfrm>
            <a:off x="228600" y="3352680"/>
            <a:ext cx="4419720" cy="2822760"/>
          </a:xfrm>
          <a:prstGeom prst="rect">
            <a:avLst/>
          </a:prstGeom>
          <a:ln w="0">
            <a:noFill/>
          </a:ln>
        </p:spPr>
      </p:pic>
      <p:pic>
        <p:nvPicPr>
          <p:cNvPr id="1365" name="Picture 13" descr="example-de.gif"/>
          <p:cNvPicPr/>
          <p:nvPr/>
        </p:nvPicPr>
        <p:blipFill>
          <a:blip r:embed="rId2"/>
          <a:stretch/>
        </p:blipFill>
        <p:spPr>
          <a:xfrm>
            <a:off x="4800600" y="3352680"/>
            <a:ext cx="411480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7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Calorimeter “designer” tool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As long as the following is tru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4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54080" indent="-154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…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one can with a moderate effort (99% of which is writing a ROOT C macro with geometry and mapping description) build custom EicRoot-friendly calorimeter which can be used for both standalone resolution studies and/or as an optional EIC device </a:t>
            </a:r>
            <a:r>
              <a:rPr b="0" lang="en-US" sz="2800" spc="-1" strike="noStrike">
                <a:solidFill>
                  <a:srgbClr val="008000"/>
                </a:solidFill>
                <a:latin typeface="Tahoma"/>
              </a:rPr>
              <a:t>(and internal cell structure does not matter)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TextBox 7"/>
          <p:cNvSpPr/>
          <p:nvPr/>
        </p:nvSpPr>
        <p:spPr>
          <a:xfrm>
            <a:off x="1045800" y="5791320"/>
            <a:ext cx="83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00"/>
                </a:solidFill>
                <a:uFillTx/>
                <a:latin typeface="Tahoma"/>
              </a:rPr>
              <a:t>-&gt; see tutorials/designer/calorimetry directory for details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609480" y="144792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your dream calorimeter is a logical 2D matrix …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omposed of “long cells” as elementary units, 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all the game is based on (known) light output per energy deposit,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nergy resolution after “ideal” digitization suffices as a result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0" y="205740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Overall status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2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EicRoot availability &amp; usage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14479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</a:rPr>
              <a:t>-&gt; MC points</a:t>
            </a:r>
            <a:r>
              <a:rPr b="0" lang="ru-RU" sz="1600" spc="-1" strike="noStrike">
                <a:solidFill>
                  <a:srgbClr val="515f7b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Text Box 4"/>
          <p:cNvSpPr/>
          <p:nvPr/>
        </p:nvSpPr>
        <p:spPr>
          <a:xfrm>
            <a:off x="149400" y="3733920"/>
            <a:ext cx="1546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simulatio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6" name="Rectangle 3"/>
          <p:cNvSpPr/>
          <p:nvPr/>
        </p:nvSpPr>
        <p:spPr>
          <a:xfrm>
            <a:off x="304920" y="99072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SVN -&gt; </a:t>
            </a:r>
            <a:r>
              <a:rPr b="0" lang="en-US" sz="2400" spc="-1" strike="noStrike" u="sng">
                <a:solidFill>
                  <a:srgbClr val="91afbf"/>
                </a:solidFill>
                <a:uFillTx/>
                <a:latin typeface="Tahoma"/>
                <a:ea typeface="ＭＳ Ｐゴシック"/>
                <a:hlinkClick r:id="rId1"/>
              </a:rPr>
              <a:t>http://svn.racf.bnl.gov/svn/eic/eic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ic000* cluster -&gt; /eic/data/FairRoot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7" name="Text Box 4"/>
          <p:cNvSpPr/>
          <p:nvPr/>
        </p:nvSpPr>
        <p:spPr>
          <a:xfrm>
            <a:off x="2288520" y="3733920"/>
            <a:ext cx="1636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digitizatio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8" name="Text Box 4"/>
          <p:cNvSpPr/>
          <p:nvPr/>
        </p:nvSpPr>
        <p:spPr>
          <a:xfrm>
            <a:off x="7211520" y="3733920"/>
            <a:ext cx="14868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PID” Pas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79" name="Text Box 4"/>
          <p:cNvSpPr/>
          <p:nvPr/>
        </p:nvSpPr>
        <p:spPr>
          <a:xfrm>
            <a:off x="4570200" y="3733920"/>
            <a:ext cx="20660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1afbf"/>
                </a:solidFill>
                <a:latin typeface="Tahoma"/>
              </a:rPr>
              <a:t>reconstructio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0" name="Right Arrow 16"/>
          <p:cNvSpPr/>
          <p:nvPr/>
        </p:nvSpPr>
        <p:spPr>
          <a:xfrm>
            <a:off x="1752480" y="38098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1" name="Right Arrow 26"/>
          <p:cNvSpPr/>
          <p:nvPr/>
        </p:nvSpPr>
        <p:spPr>
          <a:xfrm>
            <a:off x="4038480" y="3809880"/>
            <a:ext cx="4572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2" name="Right Arrow 27"/>
          <p:cNvSpPr/>
          <p:nvPr/>
        </p:nvSpPr>
        <p:spPr>
          <a:xfrm>
            <a:off x="6705720" y="3809880"/>
            <a:ext cx="380880" cy="304920"/>
          </a:xfrm>
          <a:prstGeom prst="rightArrow">
            <a:avLst>
              <a:gd name="adj1" fmla="val 50000"/>
              <a:gd name="adj2" fmla="val 49964"/>
            </a:avLst>
          </a:prstGeom>
          <a:solidFill>
            <a:srgbClr val="c5dfe5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3" name="Rectangle 3"/>
          <p:cNvSpPr/>
          <p:nvPr/>
        </p:nvSpPr>
        <p:spPr>
          <a:xfrm>
            <a:off x="2209680" y="4114800"/>
            <a:ext cx="1143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Hits</a:t>
            </a:r>
            <a:r>
              <a:rPr b="0" lang="ru-RU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4" name="Rectangle 3"/>
          <p:cNvSpPr/>
          <p:nvPr/>
        </p:nvSpPr>
        <p:spPr>
          <a:xfrm>
            <a:off x="4495680" y="4114800"/>
            <a:ext cx="1828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“Short” tracks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Clusters</a:t>
            </a:r>
            <a:r>
              <a:rPr b="0" lang="ru-RU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7010280" y="41148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“Combined” tracks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-&gt; Vertices @ IP</a:t>
            </a:r>
            <a:r>
              <a:rPr b="0" lang="ru-RU" sz="16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16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6" name="Rectangle 3"/>
          <p:cNvSpPr/>
          <p:nvPr/>
        </p:nvSpPr>
        <p:spPr>
          <a:xfrm>
            <a:off x="53352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OOT files for analysis available after each step </a:t>
            </a:r>
            <a:r>
              <a:rPr b="0" lang="ru-RU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C++ class structure is (well?) defined at each I/O stage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7" name="TextBox 18"/>
          <p:cNvSpPr/>
          <p:nvPr/>
        </p:nvSpPr>
        <p:spPr>
          <a:xfrm>
            <a:off x="1088280" y="304812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</a:rPr>
              <a:t>End user point of view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88" name="Rectangle 3"/>
          <p:cNvSpPr/>
          <p:nvPr/>
        </p:nvSpPr>
        <p:spPr>
          <a:xfrm>
            <a:off x="914400" y="1981080"/>
            <a:ext cx="3809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README &amp; installation hints </a:t>
            </a:r>
            <a:r>
              <a:rPr b="0" lang="ru-RU" sz="1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Few basic usage examples 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0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Interface to </a:t>
            </a:r>
            <a:r>
              <a:rPr b="0" i="1" lang="en-US" sz="4800" spc="-1" strike="noStrike">
                <a:solidFill>
                  <a:srgbClr val="515f7b"/>
                </a:solidFill>
                <a:latin typeface="Tahoma"/>
              </a:rPr>
              <a:t>eic-smear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15f7b"/>
                </a:solidFill>
                <a:uFillTx/>
                <a:latin typeface="Tahoma"/>
              </a:rPr>
              <a:t>EicRoot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15f7b"/>
                </a:solidFill>
                <a:uFillTx/>
                <a:latin typeface="Tahoma"/>
              </a:rPr>
              <a:t>EicRoot output</a:t>
            </a:r>
            <a:r>
              <a:rPr b="0" lang="ru-RU" sz="3200" spc="-1" strike="noStrike" u="sng">
                <a:solidFill>
                  <a:srgbClr val="515f7b"/>
                </a:solidFill>
                <a:uFillTx/>
                <a:latin typeface="Tahoma"/>
              </a:rPr>
              <a:t> </a:t>
            </a:r>
            <a:r>
              <a:rPr b="0" lang="en-US" sz="3600" spc="-1" strike="noStrike" u="sng">
                <a:solidFill>
                  <a:srgbClr val="515f7b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Rectangle 3"/>
          <p:cNvSpPr/>
          <p:nvPr/>
        </p:nvSpPr>
        <p:spPr>
          <a:xfrm>
            <a:off x="838080" y="1523880"/>
            <a:ext cx="8153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rectly uses </a:t>
            </a:r>
            <a:r>
              <a:rPr b="0" i="1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ic-smear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library calls to import ASCII event files after MC generators …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as well as “unified” ROOT format event files 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4" name="Rectangle 3"/>
          <p:cNvSpPr/>
          <p:nvPr/>
        </p:nvSpPr>
        <p:spPr>
          <a:xfrm>
            <a:off x="838080" y="3962520"/>
            <a:ext cx="8153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is available in </a:t>
            </a:r>
            <a:r>
              <a:rPr b="0" i="1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ic-smear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format with charged particle momentum variables “smeared” by Kalman Filter fit after track reconstruction …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… </a:t>
            </a:r>
            <a:r>
              <a:rPr b="0" lang="en-US" sz="28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while other variables modified by smearing generator according to its recipes  </a:t>
            </a:r>
            <a:endParaRPr b="0" lang="en-US" sz="2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6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Detector view (June’2013)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198" name="Rectangle 3"/>
          <p:cNvSpPr/>
          <p:nvPr/>
        </p:nvSpPr>
        <p:spPr>
          <a:xfrm>
            <a:off x="762120" y="58672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EMC and tracking detectors ~implemented so far </a:t>
            </a:r>
            <a:r>
              <a:rPr b="0" lang="ru-RU" sz="24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pic>
        <p:nvPicPr>
          <p:cNvPr id="1199" name="Picture 18" descr="detectorCut.png"/>
          <p:cNvPicPr/>
          <p:nvPr/>
        </p:nvPicPr>
        <p:blipFill>
          <a:blip r:embed="rId1"/>
          <a:srcRect l="18374" t="15335" r="7500" b="5998"/>
          <a:stretch/>
        </p:blipFill>
        <p:spPr>
          <a:xfrm>
            <a:off x="685800" y="1066680"/>
            <a:ext cx="7913520" cy="4724640"/>
          </a:xfrm>
          <a:prstGeom prst="rect">
            <a:avLst/>
          </a:prstGeom>
          <a:ln w="0">
            <a:noFill/>
          </a:ln>
        </p:spPr>
      </p:pic>
      <p:sp>
        <p:nvSpPr>
          <p:cNvPr id="1200" name="TextBox 19"/>
          <p:cNvSpPr/>
          <p:nvPr/>
        </p:nvSpPr>
        <p:spPr>
          <a:xfrm>
            <a:off x="2192760" y="4419720"/>
            <a:ext cx="8038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CEMC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1" name="TextBox 20"/>
          <p:cNvSpPr/>
          <p:nvPr/>
        </p:nvSpPr>
        <p:spPr>
          <a:xfrm>
            <a:off x="1731600" y="5334120"/>
            <a:ext cx="8085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BEMC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2" name="TextBox 21"/>
          <p:cNvSpPr/>
          <p:nvPr/>
        </p:nvSpPr>
        <p:spPr>
          <a:xfrm>
            <a:off x="5081760" y="4876920"/>
            <a:ext cx="1328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OLENOID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3" name="TextBox 22"/>
          <p:cNvSpPr/>
          <p:nvPr/>
        </p:nvSpPr>
        <p:spPr>
          <a:xfrm>
            <a:off x="6387480" y="1447920"/>
            <a:ext cx="77796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ahoma"/>
              </a:rPr>
              <a:t>FEMC</a:t>
            </a:r>
            <a:endParaRPr b="0" lang="en-US" sz="18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Update on track 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15f7b"/>
                </a:solidFill>
                <a:latin typeface="Arial"/>
              </a:rPr>
              <a:t>resolution studies</a:t>
            </a:r>
            <a:endParaRPr b="0" lang="en-US" sz="54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Date Placeholder 3"/>
          <p:cNvSpPr/>
          <p:nvPr/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06/20/2013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6" name="Footer Placeholder 4"/>
          <p:cNvSpPr/>
          <p:nvPr/>
        </p:nvSpPr>
        <p:spPr>
          <a:xfrm>
            <a:off x="2895480" y="6243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15f7b"/>
                </a:solidFill>
                <a:latin typeface="Tahoma"/>
              </a:rPr>
              <a:t>A.Kiselev</a:t>
            </a:r>
            <a:endParaRPr b="0" lang="en-US" sz="1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15f7b"/>
                </a:solidFill>
                <a:latin typeface="Tahoma"/>
              </a:rPr>
              <a:t>Tracking elements</a:t>
            </a:r>
            <a:endParaRPr b="0" lang="en-US" sz="48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8" name="Rectangle 3"/>
          <p:cNvSpPr/>
          <p:nvPr/>
        </p:nvSpPr>
        <p:spPr>
          <a:xfrm>
            <a:off x="838080" y="251460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2x7 disks with up to 280 mm radius; MAPS pixels assumed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N sectors per disk; 200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 silicon-equivalent thicknes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: same as for vertex tracker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09" name="Footer Placeholder 4"/>
          <p:cNvSpPr/>
          <p:nvPr/>
        </p:nvSpPr>
        <p:spPr>
          <a:xfrm>
            <a:off x="457200" y="1981080"/>
            <a:ext cx="6705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  <a:ea typeface="ＭＳ Ｐゴシック"/>
              </a:rPr>
              <a:t>forward/backward silicon trackers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0" name="Footer Placeholder 4"/>
          <p:cNvSpPr/>
          <p:nvPr/>
        </p:nvSpPr>
        <p:spPr>
          <a:xfrm>
            <a:off x="457200" y="3657600"/>
            <a:ext cx="6705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  <a:ea typeface="ＭＳ Ｐゴシック"/>
              </a:rPr>
              <a:t>TPC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1" name="Footer Placeholder 4"/>
          <p:cNvSpPr/>
          <p:nvPr/>
        </p:nvSpPr>
        <p:spPr>
          <a:xfrm>
            <a:off x="457200" y="5181480"/>
            <a:ext cx="6705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  <a:ea typeface="ＭＳ Ｐゴシック"/>
              </a:rPr>
              <a:t>GEM trackers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2" name="Rectangle 3"/>
          <p:cNvSpPr/>
          <p:nvPr/>
        </p:nvSpPr>
        <p:spPr>
          <a:xfrm>
            <a:off x="838080" y="403848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~2m long; gas volume radius [300..800] mm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1.2% X</a:t>
            </a:r>
            <a:r>
              <a:rPr b="0" lang="en-US" sz="2000" spc="-1" strike="noStrike" baseline="-25000">
                <a:solidFill>
                  <a:srgbClr val="515f7b"/>
                </a:solidFill>
                <a:latin typeface="Tahoma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IFC, 4.0% X</a:t>
            </a:r>
            <a:r>
              <a:rPr b="0" lang="en-US" sz="2000" spc="-1" strike="noStrike" baseline="-25000">
                <a:solidFill>
                  <a:srgbClr val="515f7b"/>
                </a:solidFill>
                <a:latin typeface="Tahoma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OFC; 15.0% X</a:t>
            </a:r>
            <a:r>
              <a:rPr b="0" lang="en-US" sz="2000" spc="-1" strike="noStrike" baseline="-25000">
                <a:solidFill>
                  <a:srgbClr val="515f7b"/>
                </a:solidFill>
                <a:latin typeface="Tahoma"/>
                <a:ea typeface="ＭＳ Ｐゴシック"/>
              </a:rPr>
              <a:t>0 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aluminum endcap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: idealized, assume 1x5 mm GEM pads 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3" name="Rectangle 3"/>
          <p:cNvSpPr/>
          <p:nvPr/>
        </p:nvSpPr>
        <p:spPr>
          <a:xfrm>
            <a:off x="838080" y="5638680"/>
            <a:ext cx="7086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3 disks behind the TPC endcap; STAR FGT desig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: 100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 resolution in X&amp;Y; gaussian smearing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4" name="Footer Placeholder 4"/>
          <p:cNvSpPr/>
          <p:nvPr/>
        </p:nvSpPr>
        <p:spPr>
          <a:xfrm>
            <a:off x="457200" y="762120"/>
            <a:ext cx="67057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15f7b"/>
                </a:solidFill>
                <a:uFillTx/>
                <a:latin typeface="Tahoma"/>
                <a:ea typeface="ＭＳ Ｐゴシック"/>
              </a:rPr>
              <a:t>vertex silicon tracker:</a:t>
            </a:r>
            <a:endParaRPr b="0" lang="en-US" sz="2400" spc="-1" strike="noStrike">
              <a:solidFill>
                <a:srgbClr val="515f7b"/>
              </a:solidFill>
              <a:latin typeface="Tahoma"/>
            </a:endParaRPr>
          </a:p>
        </p:txBody>
      </p:sp>
      <p:sp>
        <p:nvSpPr>
          <p:cNvPr id="1215" name="Rectangle 3"/>
          <p:cNvSpPr/>
          <p:nvPr/>
        </p:nvSpPr>
        <p:spPr>
          <a:xfrm>
            <a:off x="838080" y="129528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6 MAPS layers at up to of 160mm radius; STAR ladder design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digitization: discrete ~20x20</a:t>
            </a:r>
            <a:r>
              <a:rPr b="0" lang="ru-RU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515f7b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m</a:t>
            </a:r>
            <a:r>
              <a:rPr b="0" lang="en-US" sz="2000" spc="-1" strike="noStrike" baseline="30000">
                <a:solidFill>
                  <a:srgbClr val="515f7b"/>
                </a:solidFill>
                <a:latin typeface="Tahoma"/>
                <a:ea typeface="ＭＳ Ｐゴシック"/>
              </a:rPr>
              <a:t>2</a:t>
            </a:r>
            <a:r>
              <a:rPr b="0" lang="en-US" sz="2000" spc="-1" strike="noStrike">
                <a:solidFill>
                  <a:srgbClr val="515f7b"/>
                </a:solidFill>
                <a:latin typeface="Tahoma"/>
                <a:ea typeface="ＭＳ Ｐゴシック"/>
              </a:rPr>
              <a:t> pixels</a:t>
            </a:r>
            <a:endParaRPr b="0" lang="en-US" sz="2000" spc="-1" strike="noStrike">
              <a:solidFill>
                <a:srgbClr val="515f7b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9T14:19:49Z</dcterms:created>
  <dc:creator>Alexander Kiselev</dc:creator>
  <dc:description/>
  <dc:language>en-US</dc:language>
  <cp:lastModifiedBy>Alexander Kiselev</cp:lastModifiedBy>
  <dcterms:modified xsi:type="dcterms:W3CDTF">2013-06-20T17:25:27Z</dcterms:modified>
  <cp:revision>445</cp:revision>
  <dc:subject/>
  <dc:title>BNL interview talk (June 2012)</dc:title>
</cp:coreProperties>
</file>